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51EA-1EE8-45BE-A78F-49C2A8F1F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ECB7-0F94-4BA2-B57A-4827E73D6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F1FA9B-9776-4D9B-82AD-7BDA5DC18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733F43-D701-4B9C-B595-962E224D4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035FC5-FC06-43B9-871C-00DA7D02E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BC6C0B-E8D6-41D5-96EF-8E61B8B5C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7EE822-7A82-4C4A-8ABA-CB2D607D1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D710D0-8D66-49FF-A27D-D4C002EC7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E8167C-6C7B-4C69-ACBF-97BA97A61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AE8194-8E72-43FF-AF6D-EFA9B9675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B38DAD-91F9-45FD-AC10-18A12B581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91A6D7-840C-4100-90F4-E901C2CB9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0388-B999-45BE-AB1E-623C8C6B7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043A25-F50F-42F4-997A-35CC898D8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6C3BDC-2AE2-4A9D-93B7-EDD70F5F4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DCD980-732D-4F7A-93DE-FA5B017D6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05AF51-7CFD-4EF0-B451-F353D3E90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26EF2C-2056-4340-926D-8E515DD15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560427-FD56-4192-9F8C-944707FCF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07C073-5550-47A7-AE0F-92075A4AF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3D871E-E20B-471F-945A-2A584D07C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DA1234-7465-438E-B074-A7E7AA483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4CDF22-FB4F-4D4D-8CE5-49DC9DFD3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D693-3DDE-4783-A73B-B5C4D4712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1F8351-B7EF-45E1-BACC-753ED2842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AFE0AA-DE9C-48B4-9AA4-0383D6D2D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2D386F-2496-4B31-9FB3-E522D0E75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FE5CBF-5ACF-4EE4-8A4B-774EB2925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474ECC-78DA-4B09-A013-9D3A80A2A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A4B59F-C528-49CA-A615-122EDEACC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BC58BF-785B-4CD0-8F8A-61F5D2E0C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83E60F-AB31-46A1-984B-089A462C5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8781D2-6ADF-4DBE-9A49-1D91EE58B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08319C-1BB6-448B-8F75-F290CB501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D3D2B-488A-4F1D-AEA2-3112202F4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05F136-941A-4BFE-9289-B78C05493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3FEC4C-7A0F-48E1-849E-D1331A6D9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2EA510-D54D-4DE2-A942-66EFEBB9E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BE4151-A03D-45DC-9698-A41B8F97E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940FA4-2E57-4256-AB3F-65BF93989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5FD27B-13F3-4E12-8614-2D5D6A707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A7A70C-99D3-45AF-ADCD-977D5B084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810BCB-DD7B-44DC-B7B5-C2944749B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15FF25-9DF7-4DFF-9535-C103CF8AC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5F29CD-B0AD-4263-AFEB-586A82838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42A7E-646A-4B5D-BA27-48994B056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3FA2B2-74D9-4835-8DBF-B47EE2269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CEB21A-B24E-44DF-8B52-2DD3C1E6E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D8902A-61D3-4A80-BD7F-F7A642C62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840567-0B16-4B8A-929D-B611229A1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2C086A-C57F-410E-A279-18A0A9BC8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ADAC2-7419-4DCB-BC36-15B0C671E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C1DBD-18AA-4137-938C-C8C8E5747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ADA5D-C50F-47E2-B7FC-8FC1E5B57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B56A1-31A6-4730-8955-97FD82B16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30501-7D80-4292-B979-60E1FD4E2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9475-778A-4F91-94BD-CCB0DB597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8BD34-7D7A-4C76-ACDA-476063657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5CA34-DEF6-43CE-BD3F-E3AFD25D4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9730F-6587-43DF-8F32-5AD75DCE1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BF9CC-A528-4CF5-9C5A-C099B4224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9465C-C600-4131-AB71-F817F3BDE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3152D0-747C-4AFB-A982-661117788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26CAAC-7CD1-4107-B0BE-0148213B9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73F697-9C18-4FFF-BF59-51D4A3171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146366-0825-4083-8554-F9C28C39A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C921A1-4590-4B82-A2B8-4149F8BDA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18FA-220F-488E-B74A-94B82AE5B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970860-362E-48FA-80E0-18E204731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BBCAB7-DF6E-4A6E-90AA-09F42FAAA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C0193B-471D-4BEF-B5B2-51C0A3CCA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CE3C27-E7FE-47FA-94CD-C77747C37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0E2257-ADCA-4577-B957-0D50B6B63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8C3936-2A34-4CB3-BD27-276DC1840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CD43A7-3B26-41E1-AB92-AD30B4D60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B54106-32B4-4814-A52B-10329B0E7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A8DAC4-2AA7-46B0-8D45-3F8D1E8CE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8C9D09-9652-4055-9C93-9E8799BA7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1911-9326-4811-900B-D5BA464B1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E2509F-4945-4A81-9BBE-37C7E9408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483EC5-E2B8-4159-B7CB-09DD2FA52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669D94-8B01-4AF1-8900-B72971E09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0A40B5-E69D-4F2E-BB95-CAB97AC0A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C87DCC-976C-4040-86BC-66C524B37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06B549-A1B3-4195-BC1B-AD019D3A9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799BCB-D063-42E7-A6B5-FD971D78E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ECDA7C-AD1A-48D8-A050-4EAB20261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30C1EB-B1D9-47CA-AF1C-514914E84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8C6BD7-5B1B-48D8-901F-B8C365A0F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F9E2-B847-4577-9AA7-FADCA38E2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CA2F78-A56B-49F9-BF71-31F3D51FE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297984-DD6C-4E75-804D-9A0DBEFC6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E18541-E081-4501-86CF-22F52911B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5F690C-9D75-40E1-ABB0-BB3198A61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F751F9-449C-43BF-8128-0FEA19DD4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31CAE5-C591-46F5-A43E-9A6859AA0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2F2614-79DF-4AF8-8178-6772E77E2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313BC5-7EAD-42ED-9723-C7BBA352F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3F6E25-330F-4F07-9086-C5196FCC9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D46B4A-F04D-472D-9221-D218AA7CD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46F4-26B5-450C-9DE7-2DC392499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7DD7A7-4A24-465B-B766-87B5351E8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182B8A-AA56-4307-BF66-8E825004D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FDE903-B2CD-482B-8017-0F14B0E10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023853-71EC-4A24-B320-C68B32DEF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2DBD42-4F58-4874-BA63-CCB2340D3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4E323F-E473-46A9-9F49-84ECBA114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E4A1B2-68C9-4A0B-8228-BAA082B7B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B71525-1471-4AA4-8C9E-212E1336E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B17993-01AC-418E-AAC3-65126F7C2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F4F539-7C33-49D9-AB93-180FE7CDC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033F-DAED-4D73-BBE3-79CDCE0B6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6876AE-4239-498D-A114-5024FCFE8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AD1B3D-8999-43C0-91E1-5BFC819B0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5B2DE2-B2F1-4312-8684-6E53FA1AB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7CE7EB-B9BE-496C-9FC0-9A0F84333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81D1D3-2DA8-4708-8C54-02D7D8A70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AA3786-AA7A-4C5C-97AD-E0E36F7B3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D3C21D-5DFC-4753-B51B-C9A73405E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C5D63A-B832-4B16-9D39-9A28D3C91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5B9FAD-F06D-43E4-8B97-DCA3DF8C1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01F929-613B-49D2-A134-2A822B835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122C-5FBF-470A-8505-4AB62B82D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AFEB8C-EE80-4D79-80A7-AE778435B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D69E86-4204-492D-8970-F411805DA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FAE85F-ECC1-4B6D-A0DC-185EE5E14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D2850D-48DB-41A0-95E3-79FC091AB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3E33E1-6D2B-46F6-8C00-0FDE18F7E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7342FB-F272-4048-80A3-4A68C13CD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BDA0C9-1CDB-48CC-B0D6-252BB6CD7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03455D-1660-452F-BC12-29476C25E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310A8A-D41F-459B-95BE-BC94B406C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DD5B31-F8EF-4973-9B94-EEF5B8D66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C760-CE71-4B5A-88EB-744CA49B1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565626-5F2E-4C36-BDE1-1BE85D462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D3E096-5CCC-446A-9978-58DE1B0A8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631624-B17E-4043-871C-E53D21EB9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CACA7D-F0F3-427B-8434-700EF82BC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77EEE5-BCC2-4D3A-A6F7-BA0C23A90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6D2F12-5FED-47D5-A044-765DA54C5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F47182-3FE6-4377-9965-552D1A874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FC5D14-7F79-42D1-B587-2157175FA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F9A77F-F38B-434F-8FC7-5A2D73F82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C04E64-A338-423F-99EF-A46E0759F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39489-3B85-4103-B12A-338EC1E74E10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8E580-98B1-4B61-8927-E8D33AE30008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43526-997D-4E60-85F7-2204E1CBFB3B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21202-2D87-451E-8648-AEE2993E5BAF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8471A-957F-44F9-A9B6-160F68B8F373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48DD2-3F83-4D17-AC82-927F46457AE5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5A58B-E1F8-4DA5-B399-EDB92760E413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0B0DF-91BC-46A2-9153-19EB06DCC64B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7367F-24D1-416D-BC98-16ACC49F40B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33AEE-4253-4E68-AE39-0BC4856A2E85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CCCEB-2FF3-4366-BA62-A6F9A37A61F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FC550-F6D1-4FA2-BE22-BD68A6C3C3B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191 Bože náš, kde ten oheň j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ože náš, kde ten oheň j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o v tvojich verných horieval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eď pre dar pravdy presvätej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ejeden z nich mrieť neváhal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de je ten duch, čo vyzbrojil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braháma tou dôverou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e ľudu tvojmu všetkých čias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je vzorom viery, oporou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de je duch vďaky úprimnej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torým ti Dávid piesne hral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uch lásky, čo h naučil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e tebe, Bože, prednosť dal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de je duch, ktorým Eliáš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ad Bálom slávne zvíťazil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ojžiš tvár tvoju vidieť smel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Jób ťažkú skúšku podstúpil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apáľ aj v nás ten viery plam,</a:t>
            </a:r>
            <a:br>
              <a:rPr sz="4800"/>
            </a:br>
            <a:r>
              <a:rPr b="1" lang="sk-SK" sz="4700" spc="-1" strike="noStrike">
                <a:solidFill>
                  <a:srgbClr val="ffffff"/>
                </a:solidFill>
                <a:latin typeface="Arial"/>
              </a:rPr>
              <a:t>pomôž</a:t>
            </a: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700" spc="-1" strike="noStrike">
                <a:solidFill>
                  <a:srgbClr val="ffffff"/>
                </a:solidFill>
                <a:latin typeface="Arial"/>
              </a:rPr>
              <a:t>nám</a:t>
            </a: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700" spc="-1" strike="noStrike">
                <a:solidFill>
                  <a:srgbClr val="ffffff"/>
                </a:solidFill>
                <a:latin typeface="Arial"/>
              </a:rPr>
              <a:t>verne</a:t>
            </a: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7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700" spc="-1" strike="noStrike">
                <a:solidFill>
                  <a:srgbClr val="ffffff"/>
                </a:solidFill>
                <a:latin typeface="Arial"/>
              </a:rPr>
              <a:t>pravde</a:t>
            </a: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700" spc="-1" strike="noStrike">
                <a:solidFill>
                  <a:srgbClr val="ffffff"/>
                </a:solidFill>
                <a:latin typeface="Arial"/>
              </a:rPr>
              <a:t>stáť</a:t>
            </a:r>
            <a:br>
              <a:rPr sz="47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do sŕdc tebe oddaných</a:t>
            </a:r>
            <a:br>
              <a:rPr sz="4800"/>
            </a:br>
            <a:r>
              <a:rPr b="1" lang="sk-SK" sz="4700" spc="-1" strike="noStrike">
                <a:solidFill>
                  <a:srgbClr val="ffffff"/>
                </a:solidFill>
                <a:latin typeface="Arial"/>
              </a:rPr>
              <a:t>ráč hojnosť svojho ducha vliať.</a:t>
            </a:r>
            <a:br>
              <a:rPr sz="4700"/>
            </a:br>
            <a:r>
              <a:rPr b="1" lang="sk-SK" sz="47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9-03T13:36:31Z</dcterms:modified>
  <cp:revision>21</cp:revision>
  <dc:subject/>
  <dc:title>Je veľký náš Pán, on slávy je Kráľ Nech do všetkých strán  spev vrúcnych znie chvál.</dc:title>
</cp:coreProperties>
</file>